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62464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51160" y="528120"/>
            <a:ext cx="3424320" cy="256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62464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CED5-81F1-4BE9-801C-2E0EAB7B946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2D5C-EC82-41C9-8021-2929FD8CFE1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0381-AE87-437F-9D9B-9878636E58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467A-E432-4550-96BD-2B8EBFAD19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A0FD-22D8-4773-9D0C-FA50D8D79B9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8E35-CB82-455C-A83C-2D2D41FED55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A9A7-BECD-4D96-88F1-540CF28FDB9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CCB0-5221-4B66-A387-93B750D055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923F-26D4-41A1-9D23-C3AC461A3AD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B6BE-E55B-48C8-8BF8-259AFFAEB6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DB05-AB2C-463F-9937-D749D939BD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110C-F368-42A4-AC92-493039706F9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97FB-CBEA-4EBC-B3B7-2B506232933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FA59-A771-439E-AA65-C94291A5BFB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F66E-A1C7-4E61-A5D7-DF67542BEC8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D8D1-46C1-4131-92E1-BB178DAFC34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ADD1-3FD1-4AAF-AC97-38D47428DE2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F878-DD54-466E-B879-38F59A9C006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8DA1-DDDC-446A-8AF4-B0DFF620E6F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ABE6-E94D-49B5-9BB0-DD3D1D5852F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imes New Roman"/>
              </a:rPr>
              <a:t>Claudio Vi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7093080" y="64008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16000" y="189000"/>
            <a:ext cx="58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8"/>
          <p:cNvSpPr/>
          <p:nvPr/>
        </p:nvSpPr>
        <p:spPr>
          <a:xfrm>
            <a:off x="8001000" y="228600"/>
            <a:ext cx="892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Slide </a:t>
            </a:r>
            <a:fld id="{F2DF36CC-5579-4182-93A7-EEFCEE39B843}" type="slidenum"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384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La costruzione delle reti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000099"/>
                </a:solidFill>
                <a:latin typeface="Times New Roman"/>
              </a:rPr>
              <a:t>il concetto di partenariato e le implicazioni operative</a:t>
            </a:r>
            <a:r>
              <a:rPr b="1" lang="it-IT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7988400" cy="37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deve avere una composizione articolata, che comprenda soggetti rappresentativi di diversi contesti istituzionali e portatori di interessi diversific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Alcuni aspetti import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gli obiettivi  generali del prog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attese rispetto al lavoro di ciascun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motivi che hanno indotto ciascun partner a partecipare all’inizi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obiettivi che i partner intendono raggiungere e i risultati da loro auspic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strumenti e le competenze che i partner possiedono per raggiungere gli 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problematiche legate all’adesione dei singol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Il fattore cultu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Un ulteriore elemento da non sottovalutare sono gli aspetti culturali e caratteriali del partner, che se non ponderati rischiano di mettere in crisi un partenariato. A ciò di aggiunga la condivisione di una comune lingua di lav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4"/>
          <p:cNvSpPr/>
          <p:nvPr/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ade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31128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Aderire ad un gruppo già costit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7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imes New Roman"/>
              </a:rPr>
              <a:t>È una scelta che nasce dal desiderio di aderire ad una iniziativa considerata interessante quando non si possiede un’esperienza sufficiente per porsi alla guida di una partnership o quando non si possiede il tempo sufficiente per intessere le relazioni necessarie alla costituzione di un proprio partenar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cre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16836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Creare un   nuovo gruppo    di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È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una scelta che nasce dal desiderio di realizzare un’iniziativa innovativa in cui si crede in modo particolare, presuppone una certa esperienza pregressa e richiede un grosso impegno nella fase di progettazione e </a:t>
            </a:r>
            <a:r>
              <a:rPr b="0" i="1" lang="it-IT" sz="2800" spc="-1" strike="noStrike">
                <a:solidFill>
                  <a:srgbClr val="000099"/>
                </a:solidFill>
                <a:latin typeface="Times New Roman"/>
              </a:rPr>
              <a:t>team building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Struttura del partenariato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1280" y="2491920"/>
            <a:ext cx="48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st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no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d h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Interre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1. Rete a stella 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rete di nuova costitu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partner leader con una maggiore esperienz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passano per il leader che stabilisce le procedure operative, organizza la banca dati centralizzata, assegna i compiti ai singoli partner, risolve eventuali conflitti, e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2. Rete a nodi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rocesso di socializzazione tra partner è  piuttosto avanz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partner hanno un ruolo paritario, uguale esperienza e medesime caratteris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leader rappresen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municazione circola in modo inf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3. Rete ad hoc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rete è già matura ed i partner vantano rapporti consoli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non si evidenzia una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fra partner sono dir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4. Interrete 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modello di rete compl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cooperazione intensiva fra diversi part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upporto di una struttura di coordinamento, punto di riferimento che garantisce la fluidità del flusso di informazioni fra i var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ogni partner è responsabile della propria 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Perché fare rete?</a:t>
            </a:r>
            <a:r>
              <a:rPr b="1" lang="it-IT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Promuovere la cooperazioni fra organizzazioni che lavorano sugli stessi problemi ma che sono diverse per tipologia, rilevanza, esperienza e nazionalità consente di ottenere risultati con un valore aggiunto maggi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si intende per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Una rete di partner la cui specificità risiede nelle connessioni tra i vari nodi e non nei nodi st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artenariato non si qualifica per i suoi componenti ma per le connessioni che tra questi si possono cr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918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Obiettiv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Realizzare il progetto non attraverso un semplice trasferimento o scambio di informazioni, ma realizzando in comune prodotti o proc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isultati della r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i caratterizzano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l lavoro tra realtà differ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eterogeneità dei gruppi operativi che li hanno realizz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ampio riconoscimento dei criteri di utilità ed efficacia utilizzati per la re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imp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Il partenariato transnazionale comporta un accordo tra soggetti diversi appartenenti ad aree geografiche differenti, finalizzato a raggiungere obiettivi di interesse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me si costituis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Ogni partner porta con sé e mette a disposizione dell’iniziativa le proprie risorse, le competenze e le esperien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aratteristiche del partenariato </a:t>
            </a: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nei Programmi comunit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525636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1360" indent="-532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Transnazion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532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Transnazionalità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riunisce persone e/o organismi provenienti da realtà geografiche differ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9:09:52Z</dcterms:created>
  <dc:creator>Trani</dc:creator>
  <dc:description/>
  <dc:language>en-US</dc:language>
  <cp:lastModifiedBy>vitali</cp:lastModifiedBy>
  <dcterms:modified xsi:type="dcterms:W3CDTF">2008-09-01T07:01:03Z</dcterms:modified>
  <cp:revision>131</cp:revision>
  <dc:subject/>
  <dc:title>Struttura Piano di monitoraggio</dc:title>
</cp:coreProperties>
</file>